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B92-E7C1-4C97-9387-FEB97823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3D7-EFDD-4A37-B358-02A4D8E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C17-A83A-406C-B35C-3E993274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055-AA71-4049-97C4-5A00AE62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551-1681-4B63-85DF-29F806C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C46-D8C1-4E98-A095-C630FBB7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CD3-C676-4842-919A-1BC7A7E9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C68-B8EC-4887-ACB7-2868F22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202-B20F-4871-BFEB-AE63B59A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F4E-5237-467D-AE0F-F4341E6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9F3-A1B6-4B36-B956-E34C465A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2C1-285D-422E-A73B-CE2EF2A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997-6C41-49C5-89E6-C76CC05B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2.4   Variables and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752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two variable expressions equal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743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95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ation that contain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of a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1911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that makes an equatio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157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1: Classifying Types of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8080"/>
            <a:ext cx="8229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y equ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hether each equation is true, false, or an open sentence. Ex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3(b – 8)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7 - (- 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– 9 + 5 =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an equ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rite an equation for six times a number added to the number is the opposite of forty-two. State whether the equation is true, false, or an open sentence.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1676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pen – variabl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438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alse – 13 doesn’t equa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5053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rue    -4 +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6386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6n + n = - 42      open, variabl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158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124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124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Open, variabl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124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257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45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71600"/>
            <a:ext cx="8229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ubstituting to 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45 a solution of the equation 120 + x = 7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 gift pack must hold 20 lb. of food. Apples weigh 9 lb. and cheese weighs 5 lb. Can the jar of jam that completes the package weigh 7 lb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362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+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 =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800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+ 5 + 7 = 20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334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80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2: Checking Equations Using Sub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371600"/>
            <a:ext cx="4496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0 – x = 3    open, variabl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181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3 – 6 = ?                           27  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6400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0:21:34Z</dcterms:created>
  <dc:creator>Susannah Graham</dc:creator>
  <dc:description/>
  <dc:language>en-US</dc:language>
  <cp:lastModifiedBy>grahams</cp:lastModifiedBy>
  <dcterms:modified xsi:type="dcterms:W3CDTF">2011-11-02T11:33:36Z</dcterms:modified>
  <cp:revision>12</cp:revision>
  <dc:subject/>
  <dc:title>http://www.phschool.com/atschool/academy123/html/bbapplet_wl-problem-430699.html  section 2.4 - evaluating</dc:title>
</cp:coreProperties>
</file>